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3.jpeg" ContentType="image/jpeg"/>
  <Override PartName="/ppt/media/image21.jpeg" ContentType="image/jpeg"/>
  <Override PartName="/ppt/media/image16.png" ContentType="image/png"/>
  <Override PartName="/ppt/media/image18.jpeg" ContentType="image/jpeg"/>
  <Override PartName="/ppt/media/image17.png" ContentType="image/png"/>
  <Override PartName="/ppt/media/image4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6.jpeg" ContentType="image/jpeg"/>
  <Override PartName="/ppt/media/image7.jpeg" ContentType="image/jpeg"/>
  <Override PartName="/ppt/media/image11.png" ContentType="image/png"/>
  <Override PartName="/ppt/media/image1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FFD6A-F867-49AD-ADEB-46A9DE4DF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CC168-EB8A-4584-BCEF-F90A42474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61E6C-2FDD-4EE3-979A-6AA7CC70C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AC541-E433-4FDB-BDAF-09AF44DB7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21C9B-A2B0-44E8-BBA1-61EA20DA4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3AE43-1102-4BFF-B8FF-769EA6ECA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A4817-0117-4275-883B-245F66856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A085E-9587-4CF5-8EE5-BF8CEBF1E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6005E-8F2C-49AF-AF79-732D5FC8A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7EB59-5639-45E2-BE92-D69DBB55E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B3D89-BCFF-4F15-A3FB-FBE255746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70A3D-7B5E-46EE-8A0D-90967BC7D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505B5-971B-4141-BE6C-3F672F9E1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AF484-FA54-4119-8456-1AEA388F1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8E7D4-EAA8-4D8A-AF67-0E53E5E14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88A33-C78E-499A-BE33-8F84558E2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AF2A0-E97D-4E4C-869E-5F5F18131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58017-25E6-4FE1-9B4F-D6B3AE70D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E1646-1F2A-4F44-AD2B-4B18B0EDC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775F5-1837-43B3-A26B-3F8EC5C6F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497C9-C13E-4406-9641-2AC223D82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50EF2-1F71-4F35-B450-002D2B603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DD711-980C-49F8-8A77-1F816F0CD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0D48F-EAD3-4A36-A09D-31DFE5783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EB2BA-A898-4C0C-8FB6-7670A44E4B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E3329-AF1A-400F-B62A-766D8D84259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ecff"/>
                </a:solidFill>
                <a:latin typeface="Arial"/>
              </a:rPr>
              <a:t>TRIUMPHS AND TRAVAILS OF JEFFERSONIAN DEMOCRACY</a:t>
            </a: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Chapter 1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Judiciary Act off 1801</a:t>
            </a:r>
            <a:endParaRPr b="1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5943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did it d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dnight judges”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did Dem.-Rep. view law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m.-Rep. repealed the Judiciary Ac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ief Justice John Marshall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aped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merican legal tradition and meaning of the Constitution more profoundly than any other single figure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rved as Chief Justice for 34 year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6" name="Picture 5" descr="John_Marshall"/>
          <p:cNvPicPr/>
          <p:nvPr/>
        </p:nvPicPr>
        <p:blipFill>
          <a:blip r:embed="rId1"/>
          <a:stretch/>
        </p:blipFill>
        <p:spPr>
          <a:xfrm>
            <a:off x="6380280" y="1219320"/>
            <a:ext cx="2449440" cy="32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Marbury v Madison</a:t>
            </a:r>
            <a:endParaRPr b="1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shall’s first and one of his most important legaci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sic Fa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u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udicial Revie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equen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9" name="Picture 4" descr="FC0700610626"/>
          <p:cNvPicPr/>
          <p:nvPr/>
        </p:nvPicPr>
        <p:blipFill>
          <a:blip r:embed="rId1"/>
          <a:stretch/>
        </p:blipFill>
        <p:spPr>
          <a:xfrm>
            <a:off x="5410080" y="2514600"/>
            <a:ext cx="257832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Jefferson Turns Warrior </a:t>
            </a:r>
            <a:endParaRPr b="1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200400" y="2133720"/>
            <a:ext cx="5486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efferson attitude and actions toward army and nav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rth African Barbary Pira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ores of Tripoli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squito fle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2" name="Picture 6" descr="barbary"/>
          <p:cNvPicPr/>
          <p:nvPr/>
        </p:nvPicPr>
        <p:blipFill>
          <a:blip r:embed="rId1"/>
          <a:stretch/>
        </p:blipFill>
        <p:spPr>
          <a:xfrm>
            <a:off x="171360" y="1676520"/>
            <a:ext cx="2789280" cy="40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The Louisiana Godsend </a:t>
            </a:r>
            <a:endParaRPr b="1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pain had gotten Louisiana from France after the F&amp;I W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800  Spain ceded Louisiana Territory  to Franc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y does France want it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1802 Spain withdrew the right of deposit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armers’ reaction?  Jefferson’s option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efferson send envoys.  Their instruction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apoleon offers to sell the entire territory for 15 Mill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y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voys jump at the offer without waiting for instructi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Louisiana Purchase</a:t>
            </a:r>
            <a:endParaRPr b="1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46" name="Picture 5" descr="lpurch1"/>
          <p:cNvPicPr/>
          <p:nvPr/>
        </p:nvPicPr>
        <p:blipFill>
          <a:blip r:embed="rId1"/>
          <a:stretch/>
        </p:blipFill>
        <p:spPr>
          <a:xfrm>
            <a:off x="685800" y="1143000"/>
            <a:ext cx="7848720" cy="5214960"/>
          </a:xfrm>
          <a:prstGeom prst="rect">
            <a:avLst/>
          </a:prstGeom>
          <a:ln w="0">
            <a:noFill/>
          </a:ln>
        </p:spPr>
      </p:pic>
      <p:sp>
        <p:nvSpPr>
          <p:cNvPr id="247" name="Text Box 6"/>
          <p:cNvSpPr/>
          <p:nvPr/>
        </p:nvSpPr>
        <p:spPr>
          <a:xfrm>
            <a:off x="1371600" y="5867280"/>
            <a:ext cx="7010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ae8"/>
                </a:solidFill>
                <a:latin typeface="Garamond"/>
              </a:rPr>
              <a:t>Terr. West of Mississippi in Miss. and Mo. River watersh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Louisiana In The Long View </a:t>
            </a:r>
            <a:endParaRPr b="1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e of the most important events in US History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ubled the size of country and gave us very fertile lan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creased the momentum of westward expansion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d to the feeling that country was unlimited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anted the seeds of manifest Destiny—idea that America destined to control entire continent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15552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ecff"/>
                </a:solidFill>
                <a:latin typeface="Arial"/>
              </a:rPr>
              <a:t>Exploring the Louisiana Purchase and the West 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51" name="Picture 3" descr=""/>
          <p:cNvPicPr/>
          <p:nvPr/>
        </p:nvPicPr>
        <p:blipFill>
          <a:blip r:embed="rId1"/>
          <a:stretch/>
        </p:blipFill>
        <p:spPr>
          <a:xfrm>
            <a:off x="838080" y="1298520"/>
            <a:ext cx="7405920" cy="555948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Hamilton-Burr Duel</a:t>
            </a:r>
            <a:endParaRPr b="1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105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ederalist attitude toward Louisiana Purchas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aron Bur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Plot for the secession of New Englan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milton-Burr duel in 1804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ason for Du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rr killed Hamilton during the duel, and Burr further discredi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4" name="Picture 5" descr="burrduel"/>
          <p:cNvPicPr/>
          <p:nvPr/>
        </p:nvPicPr>
        <p:blipFill>
          <a:blip r:embed="rId1"/>
          <a:stretch/>
        </p:blipFill>
        <p:spPr>
          <a:xfrm>
            <a:off x="5987880" y="1523880"/>
            <a:ext cx="2857680" cy="219096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6" descr="Duel18a"/>
          <p:cNvPicPr/>
          <p:nvPr/>
        </p:nvPicPr>
        <p:blipFill>
          <a:blip r:embed="rId2"/>
          <a:stretch/>
        </p:blipFill>
        <p:spPr>
          <a:xfrm>
            <a:off x="5486400" y="3962520"/>
            <a:ext cx="3352680" cy="24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017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ecff"/>
                </a:solidFill>
                <a:latin typeface="Arial"/>
              </a:rPr>
              <a:t>America:  A Nutcrackered Neutral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74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Jefferson reelected in 1804 in a landslide. (162-14),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74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 his second term forced to deal with the mess in Europe and to try to find a way to stay neutral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74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apoleon reignites war in Europe. Brits oppose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74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By 1806 France supreme on Land, Brits supreme on seas.  Stalemate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74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t first, US shippers get rich trading to both sides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America:  A Nutcrackered Neutral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ritish Orders in Council in 180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poleon’s respons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y does US see this as violation of its right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gland impresses over 6000 US sailors between 1608-11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y does England refuse to stop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esapeake Affair -180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mericans outraged and ready for war, but Jefferson refuses to pull the trigger. Why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The Jeffersonian Revolution</a:t>
            </a:r>
            <a:endParaRPr b="1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594360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ell over 6 feet ta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t a good public speaker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e of the greatest writers among U.S. Pres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 renaissance ma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dibly well-read in science and philosoph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t. Congress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ssemblyman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ov. of Virginia.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hor of Dec. of Independence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in. to France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. of State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ce Pr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5" name="Picture 4" descr="jefferson"/>
          <p:cNvPicPr/>
          <p:nvPr/>
        </p:nvPicPr>
        <p:blipFill>
          <a:blip r:embed="rId1"/>
          <a:stretch/>
        </p:blipFill>
        <p:spPr>
          <a:xfrm>
            <a:off x="6477120" y="1905120"/>
            <a:ext cx="215712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ecff"/>
                </a:solidFill>
                <a:latin typeface="Arial"/>
              </a:rPr>
              <a:t>Jefferson’s Backfiring Embargo 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tional Honor required US to do something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s and cons of US opt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mbargo Act (1807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sumed this would quickly bring England and France aroun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Embargo</a:t>
            </a:r>
            <a:endParaRPr b="1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380880" y="16761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st people HATE it.  Why?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w England Federalist particularly ma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did they argue?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sequenc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ree times more costly that war would have bee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ltimately did help New England factori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6" name="Picture 4" descr="ograbme"/>
          <p:cNvPicPr/>
          <p:nvPr/>
        </p:nvPicPr>
        <p:blipFill>
          <a:blip r:embed="rId1"/>
          <a:stretch/>
        </p:blipFill>
        <p:spPr>
          <a:xfrm>
            <a:off x="1066680" y="1359000"/>
            <a:ext cx="6858000" cy="50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Non-Intercourse Act</a:t>
            </a:r>
            <a:endParaRPr b="1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rch 1809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just before Jefferson leaves office, Congress repealed the embargo and substituted the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n-Intercourse Ac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did IT requir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y embargo faile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n-Intercourse Act did hurt England, and they repealed Orders in Council, but too late to avoid War of 181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James Madison</a:t>
            </a:r>
            <a:endParaRPr b="1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580920" y="1295280"/>
            <a:ext cx="53341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came 4th President in 1809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-4, 100 lb., weak voic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ry distinguished career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t. Congress, Congressman, Const. Convention,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. of Stat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 very successful as President.  Party broken by factions and he was not a strong leader of i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lly Madison, first true First Lady who acted as social hostes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1" name="Picture 5" descr="james_madison"/>
          <p:cNvPicPr/>
          <p:nvPr/>
        </p:nvPicPr>
        <p:blipFill>
          <a:blip r:embed="rId1"/>
          <a:stretch/>
        </p:blipFill>
        <p:spPr>
          <a:xfrm>
            <a:off x="304920" y="1600200"/>
            <a:ext cx="314460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017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Madison: Dupe Of Napoleon </a:t>
            </a:r>
            <a:endParaRPr b="1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con’s Bill No. 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y it was passed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it said about trad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poleon tricks Madison into believing France would comply.  Sets US on course antagonistic to Englan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ar Hawks”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r Hawks pushing for War against Englan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y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nry Clay; John C. Calhou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Text Box 2"/>
          <p:cNvSpPr/>
          <p:nvPr/>
        </p:nvSpPr>
        <p:spPr>
          <a:xfrm>
            <a:off x="1295280" y="457200"/>
            <a:ext cx="655344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6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heshireBroad"/>
              </a:rPr>
              <a:t>“</a:t>
            </a:r>
            <a:r>
              <a:rPr b="1" lang="en-US" sz="4400" spc="-1" strike="noStrike">
                <a:solidFill>
                  <a:srgbClr val="ffffff"/>
                </a:solidFill>
                <a:latin typeface="CheshireBroad"/>
              </a:rPr>
              <a:t>War Hawks”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Text Box 3"/>
          <p:cNvSpPr/>
          <p:nvPr/>
        </p:nvSpPr>
        <p:spPr>
          <a:xfrm>
            <a:off x="1600200" y="5486400"/>
            <a:ext cx="25909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Comic Sans MS"/>
              </a:rPr>
              <a:t>Henry Clay [KY]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Text Box 4"/>
          <p:cNvSpPr/>
          <p:nvPr/>
        </p:nvSpPr>
        <p:spPr>
          <a:xfrm>
            <a:off x="5486400" y="1752480"/>
            <a:ext cx="3429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Comic Sans MS"/>
              </a:rPr>
              <a:t>John C. Calhoun [SC]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7" name="Picture 5" descr="Henry Clay"/>
          <p:cNvPicPr/>
          <p:nvPr/>
        </p:nvPicPr>
        <p:blipFill>
          <a:blip r:embed="rId1"/>
          <a:stretch/>
        </p:blipFill>
        <p:spPr>
          <a:xfrm>
            <a:off x="1523880" y="1523880"/>
            <a:ext cx="2819520" cy="3657600"/>
          </a:xfrm>
          <a:prstGeom prst="rect">
            <a:avLst/>
          </a:prstGeom>
          <a:ln w="9360">
            <a:solidFill>
              <a:srgbClr val="663300"/>
            </a:solidFill>
            <a:miter/>
          </a:ln>
        </p:spPr>
      </p:pic>
      <p:pic>
        <p:nvPicPr>
          <p:cNvPr id="278" name="Picture 6" descr="John C Calhoun"/>
          <p:cNvPicPr/>
          <p:nvPr/>
        </p:nvPicPr>
        <p:blipFill>
          <a:blip r:embed="rId2"/>
          <a:stretch/>
        </p:blipFill>
        <p:spPr>
          <a:xfrm>
            <a:off x="5562720" y="2438280"/>
            <a:ext cx="3247920" cy="3810240"/>
          </a:xfrm>
          <a:prstGeom prst="rect">
            <a:avLst/>
          </a:prstGeom>
          <a:ln w="9360">
            <a:solidFill>
              <a:srgbClr val="66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Battling Indians in the West</a:t>
            </a:r>
            <a:endParaRPr b="1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5410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r Hawks believed Brits stirring up Indians in the Wes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entucky Probl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cumseh and the Profit.  Shawnee Broth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began to build a tribal confederacy east of the Mississippi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ir pla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ttacked Settlers in “their” lan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1" name="Picture 5" descr="tecumseh"/>
          <p:cNvPicPr/>
          <p:nvPr/>
        </p:nvPicPr>
        <p:blipFill>
          <a:blip r:embed="rId1"/>
          <a:stretch/>
        </p:blipFill>
        <p:spPr>
          <a:xfrm>
            <a:off x="6095880" y="1905120"/>
            <a:ext cx="2845080" cy="35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Indian Battles</a:t>
            </a:r>
            <a:endParaRPr b="1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952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v 1811 General William Henry Harrison (9th president) attacked Tecumseh’s headquarters at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ippecanoe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dian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814 Andrew Jackson (7th President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ushed Creek Indians at Battle of Horseshoe Bend (Alabama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gnificanc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4" name="Picture 7" descr="32_00018"/>
          <p:cNvPicPr/>
          <p:nvPr/>
        </p:nvPicPr>
        <p:blipFill>
          <a:blip r:embed="rId1"/>
          <a:stretch/>
        </p:blipFill>
        <p:spPr>
          <a:xfrm>
            <a:off x="6095880" y="4114800"/>
            <a:ext cx="2075040" cy="251460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9" descr="00000095"/>
          <p:cNvPicPr/>
          <p:nvPr/>
        </p:nvPicPr>
        <p:blipFill>
          <a:blip r:embed="rId2"/>
          <a:stretch/>
        </p:blipFill>
        <p:spPr>
          <a:xfrm>
            <a:off x="6095880" y="1219320"/>
            <a:ext cx="209556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War of 1812</a:t>
            </a:r>
            <a:endParaRPr b="1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885840" y="1600200"/>
            <a:ext cx="4800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une 1812 militant War Hawks get a declaration of war from Congress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ry narrow vote, signaling a dangerous division in the country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ederalists strongly oppo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ub it “Mr. Madison’s War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8" name="Picture 5" descr="B000742G0G"/>
          <p:cNvPicPr/>
          <p:nvPr/>
        </p:nvPicPr>
        <p:blipFill>
          <a:blip r:embed="rId1"/>
          <a:stretch/>
        </p:blipFill>
        <p:spPr>
          <a:xfrm>
            <a:off x="304920" y="1600200"/>
            <a:ext cx="32050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Election of 1800 </a:t>
            </a:r>
            <a:endParaRPr b="1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ams v. Jefferson again.  Close agai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aron Burr runs as Dem.-Rep. Vice Presid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efferson wins this time,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73 to 65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y do Federalists lose support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lection is very person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w York is the key swing state.  NY delivered to Jefferson by Aaron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ur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hrough his connections in the stat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efferson strongest in west and south where universal white male suffrage (no property requirements) had taken hol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1371600"/>
            <a:ext cx="1676520" cy="2286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ecff"/>
                </a:solidFill>
                <a:latin typeface="Arial"/>
              </a:rPr>
              <a:t>Election </a:t>
            </a:r>
            <a:br>
              <a:rPr sz="3600"/>
            </a:br>
            <a:r>
              <a:rPr b="1" lang="en-US" sz="3600" spc="-1" strike="noStrike">
                <a:solidFill>
                  <a:srgbClr val="ccecff"/>
                </a:solidFill>
                <a:latin typeface="Arial"/>
              </a:rPr>
              <a:t>of 1800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9" name="Picture 3" descr=""/>
          <p:cNvPicPr/>
          <p:nvPr/>
        </p:nvPicPr>
        <p:blipFill>
          <a:blip r:embed="rId1"/>
          <a:stretch/>
        </p:blipFill>
        <p:spPr>
          <a:xfrm>
            <a:off x="2514600" y="838080"/>
            <a:ext cx="6330960" cy="555948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Election of 1800</a:t>
            </a:r>
            <a:endParaRPr b="1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581280" y="1599840"/>
            <a:ext cx="5105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aron Burr problem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ice Presidential election and electoral college before the 12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mend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ie throws election into Ho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rr’s rea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Hamilton does to help Jefferso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y he does i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2" name="Picture 5" descr="Aaron_burr"/>
          <p:cNvPicPr/>
          <p:nvPr/>
        </p:nvPicPr>
        <p:blipFill>
          <a:blip r:embed="rId1"/>
          <a:stretch/>
        </p:blipFill>
        <p:spPr>
          <a:xfrm>
            <a:off x="228600" y="2057400"/>
            <a:ext cx="31687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Revolution of 1800 </a:t>
            </a:r>
            <a:endParaRPr b="1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ection of 1800 arguably the most significant in US Histor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Why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The Federalist Finale </a:t>
            </a:r>
            <a:endParaRPr b="1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ams was the last Federalist preside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ederalist as halfway house between European past and American present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y can’t Federalists appeal to more voters?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yed a party for another 20 years, but can’t win the presidency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7" name="Picture 5" descr="Large%20Triceratops"/>
          <p:cNvPicPr/>
          <p:nvPr/>
        </p:nvPicPr>
        <p:blipFill>
          <a:blip r:embed="rId1"/>
          <a:stretch/>
        </p:blipFill>
        <p:spPr>
          <a:xfrm>
            <a:off x="304920" y="1981080"/>
            <a:ext cx="2743200" cy="1892520"/>
          </a:xfrm>
          <a:prstGeom prst="rect">
            <a:avLst/>
          </a:prstGeom>
          <a:ln w="0">
            <a:noFill/>
          </a:ln>
        </p:spPr>
      </p:pic>
      <p:sp>
        <p:nvSpPr>
          <p:cNvPr id="228" name="Text Box 6"/>
          <p:cNvSpPr/>
          <p:nvPr/>
        </p:nvSpPr>
        <p:spPr>
          <a:xfrm>
            <a:off x="380880" y="4572000"/>
            <a:ext cx="2514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99"/>
                </a:solidFill>
                <a:latin typeface="Garamond"/>
              </a:rPr>
              <a:t>Federalists, like the dinosaurs, couldn’t adapt and so became ex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ecff"/>
                </a:solidFill>
                <a:latin typeface="Arial"/>
              </a:rPr>
              <a:t>Jefferson’s Political Principles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51920" y="1599840"/>
            <a:ext cx="57913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mes of inaugur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efferson’s political princip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jected the idea of a political elite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ckbone of democracy was the free, independent farm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iversal suffrage without regard to property ownership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mall government—government governs best when it governs leas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rict construction of the Constitu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1" name="Picture 5" descr="yoeman"/>
          <p:cNvPicPr/>
          <p:nvPr/>
        </p:nvPicPr>
        <p:blipFill>
          <a:blip r:embed="rId1"/>
          <a:stretch/>
        </p:blipFill>
        <p:spPr>
          <a:xfrm>
            <a:off x="6095880" y="1828800"/>
            <a:ext cx="2714760" cy="40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Jeffersonian Restraint </a:t>
            </a:r>
            <a:endParaRPr b="1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efferson’s first priority was to undue abuses by the Federalists.  What does he do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doned those convicted under the Alien and Sedition Ac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ushed a new naturalization law (1802) that reduced residence requirement back to five yea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ealed the excise tax—cost US 1 Mill. per year in lost revenu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duced the national deb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does he do to the core of Hamilton’s financial progra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8T01:05:46Z</dcterms:created>
  <dc:creator>John Steere</dc:creator>
  <dc:description/>
  <dc:language>en-US</dc:language>
  <cp:lastModifiedBy>Jenkins, Mark</cp:lastModifiedBy>
  <dcterms:modified xsi:type="dcterms:W3CDTF">2012-03-05T17:21:11Z</dcterms:modified>
  <cp:revision>14</cp:revision>
  <dc:subject/>
  <dc:title>Slide 1</dc:title>
</cp:coreProperties>
</file>